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052-786A-487F-A525-AB7D2BEA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CDD-46D3-4C6F-9A1A-7DC8A980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1E3-CD76-4CF6-BA38-680C47C4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E75-7E0B-41EA-8CEF-5CFA49FD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3E0-D25B-4083-897B-B242E624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24C-B678-401C-A022-922DC370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209-2718-45A5-B352-01B3EB5B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FF4-B685-4B9A-8C58-F64430A1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5B5-C0D4-498D-B4A3-BBFBACDE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9E7-BC22-4853-8EB0-5C595992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093-7EE9-462A-8E95-9581DE9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ED6-E3AA-4BF2-8438-4E389900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D3F9-1FC1-45AC-BEDA-D0E84DBE0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za, Dana, Alex, and Morgan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fine kil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condition; order or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0689"/>
              <a:gd name="adj2" fmla="val 172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in the impact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ld Sojourner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Need appeal and effec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os; answer must include credibility of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erson dedica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ir life to women’s suff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B. Anth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4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he aud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er whisper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in’t I a Woman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050"/>
              <a:gd name="adj2" fmla="val 1531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year in which wom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eived their right to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amendment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0-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690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Path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each speech and its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erms of the overall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 may vary, but must show a thorough understanding of each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066680" y="1295280"/>
            <a:ext cx="7162920" cy="4038840"/>
          </a:xfrm>
          <a:prstGeom prst="wedgeRectCallout">
            <a:avLst>
              <a:gd name="adj1" fmla="val -20870"/>
              <a:gd name="adj2" fmla="val 1913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udience of each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Requires two answer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r each speech.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th- Women’s Covention, Anthony- 29 postal districts of Monroe County,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06668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DAILY DOUBLE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Make an offer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1326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significance of the say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’t I a Woman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dentify an example presented by Truth as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35074"/>
              <a:gd name="adj2" fmla="val 1690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a rhetor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 in “After Being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its effectiveness to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ssage of the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 may 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050"/>
              <a:gd name="adj2" fmla="val 172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marize the logical appe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de by Truth, identify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usion, and explain the effe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will vary, biblical allusion, effect will 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het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9060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066680" y="1295280"/>
            <a:ext cx="7162920" cy="4038840"/>
          </a:xfrm>
          <a:prstGeom prst="wedgeRectCallout">
            <a:avLst>
              <a:gd name="adj1" fmla="val -28601"/>
              <a:gd name="adj2" fmla="val 223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urpose/messag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ch speech. (Requi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answers from each speech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th- Women are human beings, Anthony- Women are citizens therefore deserving of right to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066680" y="1447920"/>
            <a:ext cx="7162920" cy="4038480"/>
          </a:xfrm>
          <a:prstGeom prst="wedgeRectCallout">
            <a:avLst>
              <a:gd name="adj1" fmla="val -23388"/>
              <a:gd name="adj2" fmla="val 181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dentify the sentence whi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marizes the spee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 Being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228600"/>
            <a:ext cx="70866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an are citizens…privileges or immuniti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ast para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066680" y="13716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occurred with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journer Truth when she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ving with the Van Wagen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where is it s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her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ritual/Religious Awakening; supported with appropriate example from the spe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2847"/>
              <a:gd name="adj2" fmla="val 1212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an example of a rhetor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in “Ain’t I a Woma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 may 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eal nam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journer Tr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bella Baum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in topic dealt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both spee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fine oligarc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90720" y="228600"/>
            <a:ext cx="7238880" cy="862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ystem of government in which power is held by a small gr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Examp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ative Langu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“Ain’t I a Woman?”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 purpose/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y cup…measure full?” –Relate to Women’s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594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th Speakers w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osed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oup or their ide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san B. Anthony ref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his text as suppo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her argu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amble of the Federal Co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jz</cp:lastModifiedBy>
  <cp:lastPrinted>2001-01-31T16:21:13Z</cp:lastPrinted>
  <dcterms:modified xsi:type="dcterms:W3CDTF">2008-04-15T01:15:45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